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52200" y="177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Low Tech Writ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55240" y="2666520"/>
            <a:ext cx="10464840" cy="6883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ighlighter Tap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umber a page to keep track of the # of Strips for retrieva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riting Organizer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raming Thoughts (blue/yellow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28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igh Tech Read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1345680"/>
            <a:ext cx="10464840" cy="7899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emier Talking Word Processo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Extract colors for outlining, etc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rammar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rrections/Suggestions Given Orall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ord Predictio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DF Reade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halkboard"/>
              </a:rPr>
              <a:t>www.premierathome.co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ave  to choose the fil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igh Tech Read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edictor Pro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ttaches to Word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dobe PDF Reader: Must be saved as accessabl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ath Software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thpad: Basic Function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athpadPlus: Fractions &amp; Decimals, Graph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Website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eagion3atc.pbwiki.co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e are Region3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eb2.0 class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entisdat.pbwiki.co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agladies.pbwiki.co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79280" y="54612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Low Tech Writ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01360" y="1523880"/>
            <a:ext cx="10464840" cy="731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arbon paper under good notetaker or lab partner  (have notebooks w/ it built in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isspellers dictionar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lant boards (Kimmi?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28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id/High Tech Writ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1562040"/>
            <a:ext cx="10464840" cy="749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igital recorders/Recognition Softwar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ff37"/>
                </a:solidFill>
                <a:latin typeface="Chalkboard"/>
              </a:rPr>
              <a:t>Dig Rec to get thoughts out, they transcribe themselves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ecognition Software (doesn’t work well below HS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ragon Speak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peakQ ($260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mpler, simply types to tex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t up for “stop/start” speech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id/High Tech Writ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1688760"/>
            <a:ext cx="10464840" cy="788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EO = new Alphasmart $200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ore memory, choices, keyboard progra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diting features, inc font size, more lines of tex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an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almpilot capabiliti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gram download abilit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ord Rec, Inspiration, etc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cer Laptops ($400-500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ess program capabiliti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Mid/High Tech Writ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1599840"/>
            <a:ext cx="1046484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Writer: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panded saving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keyboarding programming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saurus, writing promp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Low Tech Read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eading Shield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ighlighting Tap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161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igh Tech Read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1561680"/>
            <a:ext cx="1046484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eading Pen - expensive $200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ranklin talking dictionary $40 - 50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stead of scan, student typ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canning pens that don’t talk $100 +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ownload into a talking progra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hortcut to note-taking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igh Tech Read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1079280"/>
            <a:ext cx="10464840" cy="79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emier Softwar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iversal Plu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kept rates slow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33"/>
                </a:solidFill>
                <a:latin typeface="Chalkboard"/>
              </a:rPr>
              <a:t>Has OCR scanner built in!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33"/>
                </a:solidFill>
                <a:latin typeface="Chalkboard"/>
              </a:rPr>
              <a:t>Won’t read PDF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alking Pointer (don’t need to highlight webpage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"/>
          <p:cNvSpPr/>
          <p:nvPr/>
        </p:nvSpPr>
        <p:spPr>
          <a:xfrm>
            <a:off x="5962320" y="3610440"/>
            <a:ext cx="4694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halkboard"/>
                <a:ea typeface="Chalkboard"/>
              </a:rPr>
              <a:t>Also a Writing Tool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High Tech Reading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1486080"/>
            <a:ext cx="10464840" cy="720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emier Talking Dictionar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se as Reade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ives Contex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ynonyms = thesauru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ranslation Feature: Auditorily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